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5740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57600" cy="341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7D848D-DB42-4956-8826-41ED4F03110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5FA3D5-E25B-4F08-B3E2-724FF5929EB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CCBE28-A0EF-42B7-87D5-C35454D3ECE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8A90E5-3FF6-4080-8126-7A5949F82F1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B2EC8A-AF69-4563-935E-4C18FEDBD66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3865EA-B85C-470F-8F8D-38616C37D89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9FA68D-07EF-4D58-8CC6-2CE8EAB4D8B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DF0F4D-4278-4D48-88C8-703368461DC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A25486-5BA6-41EC-AF66-C937339716C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A57244-F264-4B68-8421-13E5ECD0A1D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63F0FC-BEAC-44F8-A94E-F7396C694B5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2F64F-0BD2-40F6-BE8B-4B426DE539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520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56760"/>
            <a:ext cx="821520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4C032-2A47-4210-A89F-68B5432FA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040" y="395676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FB7EC-15E8-4E88-A328-2292CBAB2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4600" y="160020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2360" y="160020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5676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4600" y="395676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2360" y="395676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95F96-CC72-4458-BD79-6D3FDF4F5E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520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B286E-B5E8-4217-813D-68CF07430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520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B1C5E-087F-4B2A-9354-1C69B123E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69F3D-9BD0-46ED-AC01-597BF253B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CFE78-BACE-4702-BE9B-496D926B3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152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E129A-6414-4D4C-912D-01281E296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41A6A-EB5D-4443-A4C4-67DAA581D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040" y="395676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B749D-E84C-4178-85D5-20EA90BB4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821520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A0B34-C54F-4182-9A0D-1E759E804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520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3280"/>
            <a:ext cx="21193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3280"/>
            <a:ext cx="21193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273CB23-7FBE-4203-A11C-8040C1B1D301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estructura de la Tier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1332000" y="2666880"/>
            <a:ext cx="619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8200"/>
                </a:solidFill>
                <a:latin typeface="Arial"/>
              </a:rPr>
              <a:t>DESCUBRIDORES DE DISCONTINUI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Descubridores de discontinui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684360" y="1224000"/>
            <a:ext cx="3744720" cy="48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ísico, teólogo, inventor y alquimista inglés nacido en 164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ue uno de los primeros investigadores en postular que la composición del interior de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Tierra era diferente a la de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superfici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sarrollando su famosa ley de la gravedad, dedujo que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materiales del interior de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Tierra debían tener aproximadamente el doble de densidad que los de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superfici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900000" y="69228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Isaac Newt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8" descr=""/>
          <p:cNvPicPr/>
          <p:nvPr/>
        </p:nvPicPr>
        <p:blipFill>
          <a:blip r:embed="rId2"/>
          <a:stretch/>
        </p:blipFill>
        <p:spPr>
          <a:xfrm>
            <a:off x="4572000" y="836640"/>
            <a:ext cx="4248000" cy="5408640"/>
          </a:xfrm>
          <a:prstGeom prst="rect">
            <a:avLst/>
          </a:prstGeom>
          <a:ln w="0">
            <a:noFill/>
          </a:ln>
        </p:spPr>
      </p:pic>
      <p:sp>
        <p:nvSpPr>
          <p:cNvPr id="71" name="9 CuadroTexto"/>
          <p:cNvSpPr/>
          <p:nvPr/>
        </p:nvSpPr>
        <p:spPr>
          <a:xfrm>
            <a:off x="4572000" y="623736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saac Newt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Descubridores de discontinui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611280" y="1197000"/>
            <a:ext cx="4284720" cy="46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eteorólogo y sismólogo nacido en Croacia en 1857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izo importantes estudios sobre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clima, pero pasaría a la historia por descubrir la discontinuidad que separa la corteza del manto, siendo el primer científico en descubrir una de las discontinuidades entre las capas del interior terrest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s ideas no fueron comprendidas ni aceptadas hasta muchos años despué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826920" y="69228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Andrija Mohorovic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8" descr=""/>
          <p:cNvPicPr/>
          <p:nvPr/>
        </p:nvPicPr>
        <p:blipFill>
          <a:blip r:embed="rId2"/>
          <a:stretch/>
        </p:blipFill>
        <p:spPr>
          <a:xfrm>
            <a:off x="5219640" y="836640"/>
            <a:ext cx="3673440" cy="5052960"/>
          </a:xfrm>
          <a:prstGeom prst="rect">
            <a:avLst/>
          </a:prstGeom>
          <a:ln w="0">
            <a:noFill/>
          </a:ln>
        </p:spPr>
      </p:pic>
      <p:sp>
        <p:nvSpPr>
          <p:cNvPr id="80" name="9 CuadroTexto"/>
          <p:cNvSpPr/>
          <p:nvPr/>
        </p:nvSpPr>
        <p:spPr>
          <a:xfrm>
            <a:off x="5219640" y="5950080"/>
            <a:ext cx="25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ndrija Mohorovic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Descubridores de discontinui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539640" y="1628640"/>
            <a:ext cx="4537080" cy="40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ismólogo alemán nacido en 1889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doctoró a los 22 años, y a los 25 ya había realizado el descubrimiento por el que pasaría a la historia, la discontinuidad entre el manto y el núcle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ambién es conocido por ser uno de los que creó, junto a Charles Ritcher, la famosa escala Ritcher para medir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intensidad de los seísm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971640" y="83664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Beno Gutenbe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8" descr=""/>
          <p:cNvPicPr/>
          <p:nvPr/>
        </p:nvPicPr>
        <p:blipFill>
          <a:blip r:embed="rId2"/>
          <a:stretch/>
        </p:blipFill>
        <p:spPr>
          <a:xfrm>
            <a:off x="5076720" y="765000"/>
            <a:ext cx="3816360" cy="5241960"/>
          </a:xfrm>
          <a:prstGeom prst="rect">
            <a:avLst/>
          </a:prstGeom>
          <a:ln w="0">
            <a:noFill/>
          </a:ln>
        </p:spPr>
      </p:pic>
      <p:sp>
        <p:nvSpPr>
          <p:cNvPr id="89" name="9 CuadroTexto"/>
          <p:cNvSpPr/>
          <p:nvPr/>
        </p:nvSpPr>
        <p:spPr>
          <a:xfrm>
            <a:off x="5003640" y="6021360"/>
            <a:ext cx="172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Beno Gutenber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Descubridores de discontinui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468360" y="992160"/>
            <a:ext cx="4824360" cy="52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ismóloga y matemática danesa nacida en 1888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1928 fue declarada jefa del departamento de sismología del Real Instituto Geodésico Danés, donde ejerció su profesión durante 25 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1936 publicó el descubrimiento de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discontinuidad que separa el núcleo externo (fundido), del interno (sólido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urió en1993, a los 104 años de edad, tras una vida llena de aportes a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geología. Tales fueron sus méritos que en 1995 se crea la medalla Lehmann, otorgada a los que hacen grandes aportes al descubrimiento de la estructura de la Tierr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900000" y="62064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Inge Lehman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8" descr=""/>
          <p:cNvPicPr/>
          <p:nvPr/>
        </p:nvPicPr>
        <p:blipFill>
          <a:blip r:embed="rId2"/>
          <a:stretch/>
        </p:blipFill>
        <p:spPr>
          <a:xfrm>
            <a:off x="5364000" y="907920"/>
            <a:ext cx="3529080" cy="4970520"/>
          </a:xfrm>
          <a:prstGeom prst="rect">
            <a:avLst/>
          </a:prstGeom>
          <a:ln w="0">
            <a:noFill/>
          </a:ln>
        </p:spPr>
      </p:pic>
      <p:sp>
        <p:nvSpPr>
          <p:cNvPr id="98" name="9 CuadroTexto"/>
          <p:cNvSpPr/>
          <p:nvPr/>
        </p:nvSpPr>
        <p:spPr>
          <a:xfrm>
            <a:off x="5364000" y="5950080"/>
            <a:ext cx="172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ge Lehman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1:47:55Z</dcterms:created>
  <dc:creator>Beatriz</dc:creator>
  <dc:description/>
  <dc:language>en-US</dc:language>
  <cp:lastModifiedBy>Anaya</cp:lastModifiedBy>
  <dcterms:modified xsi:type="dcterms:W3CDTF">2011-09-02T09:50:18Z</dcterms:modified>
  <cp:revision>47</cp:revision>
  <dc:subject/>
  <dc:title>Diapositiva 1</dc:title>
</cp:coreProperties>
</file>